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1EAF-2868-4C39-9512-FAA5DFD22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131A-9ABB-44F7-86BE-8AD543933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DFC8-5BBE-4A83-AD58-EC6831606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6A5B-8F0D-454D-A89B-DC0FD6DC7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E37A7-F327-41E3-A262-D330BF148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FA72B-6322-4581-B7FE-6D135F775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B4AE0-F3D6-43A8-897C-5E2A2F45E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9E082-97B4-4C46-A216-FB0126A31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FED39-7899-4BA5-8779-DBF775957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B60FE-F635-43D1-BF2B-8CCF2A106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A994A-7A86-4D79-8C81-9C3512289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4688-37A2-4A47-9EC2-E15E8C3AD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569B7-0A00-4BE4-9132-CF8F542AA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53DEA-6F6D-4890-BAFB-4EB229919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51B51-0CF8-480B-B9C2-05C73B52A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2E081-2322-4964-B2D8-C695CC429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4C815-1CA8-4433-96EE-CC05B3529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737C-04F8-4599-B58C-D4DC3A9BE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A845-7919-4545-8B32-AC0F1ADB1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0CEE-8C2A-4999-8E69-13165A6B1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702F-FF9A-45A1-AA1D-A1E758487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E981-C95C-4B7D-978F-5FC5F37DD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F96F-D60B-42F1-9AA6-FB4B324A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2A23-1E0A-4518-B29C-4D5C573BD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1C92B-4910-4C0C-9800-C8524745187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19177-0FE8-4320-8ED5-769051B4B60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tionary.org/wiki/tr:erk" TargetMode="External"/><Relationship Id="rId2" Type="http://schemas.openxmlformats.org/officeDocument/2006/relationships/hyperlink" Target="http://tr.wikipedia.org/wiki/Vicdan" TargetMode="External"/><Relationship Id="rId3" Type="http://schemas.openxmlformats.org/officeDocument/2006/relationships/hyperlink" Target="http://tr.wikipedia.org/wiki/&#304;taat" TargetMode="External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24000" y="47592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MİLGRAM DENEYİ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130480" y="2270160"/>
            <a:ext cx="4673520" cy="36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468360" y="386064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ünümüz otorite profi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68360" y="76500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kıcı otorite profi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10240" y="2060640"/>
            <a:ext cx="647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atı disiplin, kayıtsız şartsız itaat  sağlan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330920" y="2637000"/>
            <a:ext cx="438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orku ve belirsizlik hakimdi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53480" y="4653000"/>
            <a:ext cx="748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reyleri gurup ve ekip çalışmasına yönlendirere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birlikten doğan kuvvet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ehlike olarak yorumlama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84360" y="3141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ünümüz otorite profi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76500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kıcı otorite profi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58920" y="1413000"/>
            <a:ext cx="758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Özgürlük ve hukuk sadece üst tabaka için uygulanabilir kurallard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401120" y="4363920"/>
            <a:ext cx="67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çme özgürlüğü sunar, tercihlere saygılıd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8360" y="3844800"/>
            <a:ext cx="79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ünümüz otorite profi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rensel doğruları benimser, farklılıkları fark e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rklılık olması teşvik edilen bir olgud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24000" y="26028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kıcı otorite profi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68360" y="765000"/>
            <a:ext cx="74883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k doğru, tek düşünce ve tek yetki vard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uplar yerine bireyleri hedef alan projeler üretir ve uygu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68360" y="3844800"/>
            <a:ext cx="79930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ünümüz otorite profi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knolojiyi ve teknolojinin sunduğu tüm imkanları toplumun gelişimi için kullan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4000" y="26028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kıcı otorite profi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8360" y="765000"/>
            <a:ext cx="7488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knolojiyi ve teknolojinin sunduğu tüm imkanları baskı aracı olarak kullan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453240" y="547920"/>
            <a:ext cx="549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okratik öğretme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rklılıkların farkındadır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1960" y="2202840"/>
            <a:ext cx="5738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oriter öğretme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k doğru, tek düşünü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 tek yetkiyi temsil ed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544040" y="1195200"/>
            <a:ext cx="570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rklı bakış açılarını dinl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lumlu ve olumsuz yönleri betiml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lumluları da söyler olumsuzları da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7800" y="333360"/>
            <a:ext cx="331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okratik öğret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400040" y="4435920"/>
            <a:ext cx="572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Öğrenciler için en iyisine o karar veri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67640" y="378936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oriter öğretmen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038240" y="4290840"/>
            <a:ext cx="733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Övgüye çok az yer ver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u bir silah olarak kullanı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Öğrencilerle ilişkilerde mesafeli, bazen de serttir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94560" y="350028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oriter öğretmen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038960" y="1731960"/>
            <a:ext cx="607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nimsemese bi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lara güvenilir bir sınıf atmosferi sun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97800" y="476280"/>
            <a:ext cx="331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okratik öğret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97800" y="333360"/>
            <a:ext cx="331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okratik öğret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67640" y="378936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oriter öğretmen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74200" y="4435200"/>
            <a:ext cx="641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Öğrenciler itaatk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kat öğretmenlerinden nefret etme eğilim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çinde olurl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476000" y="1266840"/>
            <a:ext cx="499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r arada yaşamının ve etkinlik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lunmanın hazzını kazandırı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908000" y="3284640"/>
            <a:ext cx="58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şekkürle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68000" y="907920"/>
            <a:ext cx="7559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MİLGRAM DENEYİ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İnsanların 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er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 (otorite) sahibi bir kişi veya kurumun isteklerine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endi 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vicdan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ğerleriyle çelişmesine  rağmen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3"/>
              </a:rPr>
              <a:t>itaa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 etmeye ne ölçüde istekli olduklarını ölçme amacını güden bir deneyler dizisinin genel adıdır. 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11280" y="619560"/>
            <a:ext cx="7993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3200" spc="-1" strike="noStrike" u="sng">
                <a:solidFill>
                  <a:srgbClr val="000000"/>
                </a:solidFill>
                <a:uFillTx/>
                <a:latin typeface="Arial"/>
              </a:rPr>
              <a:t>DENEY SONUÇLA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Sadece görevlerini yapan, kendi başlarına vahşi işlere kalkışmayan sıradan insanlar, korkunç bir yok etme işleminin bir parçası olabilmektedi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Katılan deneklerin </a:t>
            </a:r>
            <a:r>
              <a:rPr b="1" lang="tr-TR" sz="3200" spc="-1" strike="noStrike">
                <a:solidFill>
                  <a:srgbClr val="cc0000"/>
                </a:solidFill>
                <a:latin typeface="Arial"/>
              </a:rPr>
              <a:t>%60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 lık kısmı, yaptıkları işin yıkıcı sonuçlarını apaçık görmelerine rağmen devam etmiş,  </a:t>
            </a:r>
            <a:r>
              <a:rPr b="1" lang="tr-TR" sz="3200" spc="-1" strike="noStrike">
                <a:solidFill>
                  <a:srgbClr val="cc0000"/>
                </a:solidFill>
                <a:latin typeface="Arial"/>
              </a:rPr>
              <a:t>%40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 lık bölümü ise temel ahlak değerleriyle çelişen bu görevi reddetmişlerd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067280" y="836640"/>
            <a:ext cx="3881160" cy="51498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755640" y="836640"/>
            <a:ext cx="333072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908000" y="0"/>
            <a:ext cx="5080320" cy="66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11280" y="836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Kitle iletişim araçları bireyi ortadan kaldırıp tek tip, düşünemeyen bir kalabalık üretir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/>
          <p:cNvSpPr/>
          <p:nvPr/>
        </p:nvSpPr>
        <p:spPr>
          <a:xfrm>
            <a:off x="900000" y="3105720"/>
            <a:ext cx="7578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Arial"/>
              </a:rPr>
              <a:t>baskıcı rejimin elindeki  bu çağda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Arial"/>
              </a:rPr>
              <a:t>iletişim araçları, hayatı ade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Arial"/>
              </a:rPr>
              <a:t>cehenneme çevirip insanları koşulsuz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Arial"/>
              </a:rPr>
              <a:t>İtaate zor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Arial"/>
              </a:rPr>
              <a:t>Otoriteye mutlak itaat sözkonusud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7493040" cy="40640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619280" y="4939560"/>
            <a:ext cx="6986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000000"/>
                </a:solidFill>
                <a:latin typeface="Arial"/>
              </a:rPr>
              <a:t>Sahtekarlığın evrensel düzeyde egemen olduğu dönemlerd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000000"/>
                </a:solidFill>
                <a:latin typeface="Arial"/>
              </a:rPr>
              <a:t>gerçekleri söyleyebilmek devrimci bir eylemd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000000"/>
                </a:solidFill>
                <a:latin typeface="Arial"/>
              </a:rPr>
              <a:t>George Or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843280" y="765000"/>
            <a:ext cx="295272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067280" y="1557360"/>
            <a:ext cx="4533840" cy="47624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2412720" cy="19177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564000" y="476280"/>
            <a:ext cx="48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BASKI VE OTORİ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5T20:32:30Z</dcterms:created>
  <dc:creator>TÜRK</dc:creator>
  <dc:description/>
  <dc:language>en-US</dc:language>
  <cp:lastModifiedBy>TÜRK</cp:lastModifiedBy>
  <dcterms:modified xsi:type="dcterms:W3CDTF">2012-10-16T07:15:51Z</dcterms:modified>
  <cp:revision>6</cp:revision>
  <dc:subject/>
  <dc:title>Slayt 1</dc:title>
</cp:coreProperties>
</file>